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8617-543A-4C13-8090-CDF1ABCD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2A5-5B60-4477-B88C-D5ED4311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EF6D-D7D3-4D3F-A9B7-0F9B2884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E55D-BCDB-4987-A479-33B9814B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BE3-E33A-43E6-940A-790807EE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808-A4D8-4358-9868-50C61A3E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780-ECD3-4BB1-A3AE-3A470C88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32D-E791-40AD-9E61-00A90EF9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0304-9CD9-4BEB-9480-D4280D2E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C503-F9A5-4D7A-B59B-811A9447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C9D-897B-455F-9C01-D06EC6D2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5FEE-A52A-4391-9F82-D78A9204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2567-4BE6-4D8F-92A7-09E721A2D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ID tes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-1143000"/>
            <a:ext cx="11658600" cy="9793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19920" y="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523880" y="385920"/>
            <a:ext cx="1432548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295280" y="-380880"/>
            <a:ext cx="13716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73600" y="0"/>
            <a:ext cx="10540800" cy="1181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709560"/>
            <a:ext cx="761976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-533520"/>
            <a:ext cx="651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30:20Z</dcterms:created>
  <dc:creator>jayoig</dc:creator>
  <dc:description/>
  <dc:language>en-US</dc:language>
  <cp:lastModifiedBy>jayoig</cp:lastModifiedBy>
  <dcterms:modified xsi:type="dcterms:W3CDTF">2010-10-19T14:42:02Z</dcterms:modified>
  <cp:revision>2</cp:revision>
  <dc:subject/>
  <dc:title>Brain ID test practice</dc:title>
</cp:coreProperties>
</file>